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78B-7786-4604-98C6-71457A69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2B9-54FC-4C23-A699-66A5F2A2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65C98-63A5-4D6F-A6B0-CFB8A1A6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5BAC3-3C75-451E-A66B-A700F30F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69FCD-824B-4C68-B010-2C581E03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C8F28-3DA4-4626-8AE2-B012E0A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043A9-559C-425E-A91D-5373B381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5CF69-ACF8-4B96-AAE9-3ED8938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5B424-DCFA-43F9-9E20-A64D14F9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1EE65-2E26-410F-B4FB-83C5ECBD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E7013-2841-4791-AC68-329C4DAB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EF95F-497A-4990-9945-6E34EC0D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740-1C48-4469-8690-6C561C61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E8A89-3859-4916-9241-D5D9EA1B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870B9-1D13-4C07-BF77-08D73E1F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73C65-C7A9-49D5-9D39-4569CD8A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402A0-B8C9-4E28-9F45-0DD807A5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B2080-1E02-41D0-9A4F-5C040CE5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BA4E2-7B81-40E6-B8CF-CC07675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8E161-ABED-4A07-A158-4CEC074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55DBD-92CF-4BD1-9F22-B40C40C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296BB-50C9-4817-A850-708968FF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3BA8E-CDCD-4410-A0F3-E9E48668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C85-09A0-433D-A268-DBB7E0A0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70EE2-4C96-45DC-A0B4-8CE6640D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864A2-0F14-499A-97A2-714DA38D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1F860-CFA3-4907-B9D2-3B6EEACE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446AF-0C4F-41F5-B95D-F96747A4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16F02-AE7F-4F1F-85D7-896EAAF9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00747-EF03-4F74-9FB5-5849F388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14153-6DAA-4A4D-B2E3-4E59EF9B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935F3-6BB6-45CA-A47C-B5D7A232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C8757-DBAD-4A15-9A74-8FF111DD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EF7AD-746F-4FFB-B8AC-78261EE5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5629-4317-4C20-850A-98F4008D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0C784-EF4D-4FA2-B8B6-90C9D86C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36532-DFEC-47D1-8001-76E86850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6072B-A57F-40CE-92FF-F66D2130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3AF9D-4703-45D3-A613-6C1BD3E9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C7DD9-9D00-414F-908D-6E916592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F139B-704E-4B50-8650-8178761F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FF534-611D-4026-9D75-C80CCE57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E6B72-F4C2-488F-A852-FE6A3E13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56FB7-CB93-4ABA-AD68-5ECB028B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EA0B3-D4A4-4EC5-BC58-C308B00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4D2E-BD1E-4671-A0F0-C09A16CC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60851-2442-4A35-93F5-C6B1521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EEBB8-ECF4-4C11-AD78-94962FAC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2942C-A3BD-4169-BB2E-CEFD45D2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55221-0A31-4DC2-AEF7-E65BC95B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17B4B-CE23-4C31-B907-7EA92E6A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889D-D457-4576-AF36-BEBD1DDD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30B1-70C2-4CD6-ACA5-AD60AEC8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EA4D-7EE1-44BA-A243-2B4B77EC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47BA-16C6-4F23-988F-AE53E8A4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2B3E-CC6F-4B45-BB5B-2FC64A89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A2E-7BF2-4B31-B233-AEA60872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5E47-D1F6-4428-BF5D-4B67E7BB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8968-E188-46B8-8DC7-BCBFA22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BD89-FCA7-4324-854F-6B1E6C9F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C3EE-4508-4772-B90F-916A5C8B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4FD-3210-485E-818F-8A2E14C8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2152-6A5A-45E1-ADA4-735257EC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CD6B-DB41-49CA-871F-FA7D5ACD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18D6-005D-4DA1-8C87-107F36EE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31BB-95FC-4827-B216-D8A57D81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18D8-11B0-4565-AA91-89FF7EA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220-86D7-4660-B27E-693A0D3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0247-32DA-4FF1-B5B7-8B8898C7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E522-3BE5-45CD-8566-FD85E98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BE27-8F51-48E9-8B19-D71B975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61E5-33DF-4CFC-B304-BF38AF82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0D69-ACAD-4D18-9F9E-A180FF65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7725-6F01-4CAA-B5E4-FF78E09F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2810-CAF2-48D2-9063-2FCD39E5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9180-BE64-4F6B-8819-F460B9D7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B464-95D6-49F7-8D24-C43569C8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11F2-F9D5-4330-9990-FCBD5030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583-DEFD-4335-B9B0-89CC57DE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2B1D9-ADF9-4645-A810-7B5371CC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7412-E40F-4317-AD66-C23F47C6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393C1-EB9D-4F71-8892-2297FBFF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7C022-481B-4183-92FE-44334A5D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5288-F5E3-4648-BB8E-F128989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DD698-2993-47E7-BFC1-0113931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B857-9289-422C-8B7F-F62597FC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8568-9354-4738-B3FC-3F9373CE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BD40-143F-4E3E-BE57-28687A5A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57DDB-3510-45F4-ABB5-7EC10408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3B7-6CBA-4D84-B1F0-2750D4D5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71D2C-0E42-4EFD-A93D-43F314DF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E9092-AB9C-499C-B811-2D61395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A283B-D05B-46B2-947A-65A6D416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F29B4-A82C-43FD-80C1-538088DE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FBC61-84DA-4224-A1A2-567A1CB9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5377C-BB5A-4C21-A9C2-930BBC98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323A4-663C-4499-B1FF-4EA4173B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F7E9-DEEC-4EC9-9F53-24297974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B8B0-FB1C-4442-AF5C-9EEF947D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867CC-30E8-4A1C-8016-A3C7394C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EEF-3A2D-47CF-B8C7-6ABD8D47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5230E-CF45-4AF2-9531-828A863F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DE921-F3C6-44D0-9739-D1616BFC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DD9B8-0DEF-4A10-89C8-42B3F840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0B00C-265C-4A62-8F30-CBD9565B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6846C-74F1-4E35-B613-D424224A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EA1BB-A45A-4699-AE98-C39409CC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3D3AF-EA50-42E7-A9A4-B6A270D9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A2405-8456-4B53-9F23-2CB390C5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9979F-43CC-44D4-9FAC-DB87486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2392E-6060-4D34-A49A-476289E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B25-CD1C-488F-AFFB-8DB39FB2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928C3-CCBF-479A-8186-6AEFE11D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7EA36-08E8-4088-9EAB-B4CA8D14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A32CF-7C27-4D1B-B718-0C7A109A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C495-0E9D-43AE-BD99-39F1022F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C172-5FC7-40FD-BF0D-58772BAC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65E1-3E64-4B1D-AD0D-3C10FD1C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4D140-0364-4654-8D38-B3251FCC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BF3DE-B5C7-4173-9BCB-516898E8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240C7-97CB-41EB-9309-52DB1269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0620-AAD0-47D1-A886-61B27E0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8F8-E8F2-48E2-BB1C-2345004C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D4643-B01C-441E-BA25-DA1097C9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F150F-AA9B-40F3-84BD-45DF1CF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CD4B8-ADA0-4152-BD37-7035D56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93745-3AC6-4A50-83E0-BE9EB91F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51CCC-BF3D-4C74-A5FA-D0B61C96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6BA3B-891C-4830-81EF-F7F01379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C60E-35E0-42B5-AF43-6E6E8AB8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32555-52A4-4F4B-A102-02A826AD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28D48-45C1-400A-9B4D-7BCA3121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83376-2B48-4DF5-9A3E-69362E89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11A-CD4F-4429-A3BC-2E7E7F1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7DA81-2DBD-4580-8F8E-4981C46A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76989-C2C6-427C-953D-8589A86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1D942-3758-43B4-BD32-620258F9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33D5B-99FE-4483-B842-12F30B51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8FE3B-E568-4590-A75B-6F9EAAF6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3059B-37D5-4CFD-889C-0553B445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EE181-3B43-4516-8D6E-EE93D379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9BCB1-4F9B-4A7D-8A64-C04A12FD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7FFC8-F1AB-4E2B-8C89-BF6B2E91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88B00-3A0A-4F96-AD9E-0B911096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A2B6-7BAC-46F0-B061-FDDC6146D0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D744-54C9-4BE0-97AA-92D92D36CA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AC2B-C336-4D27-ABE1-58E896397D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61BA-25D4-47A2-B65A-E8F593A803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50F2-373C-4C3F-B18A-84F3F22462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60A6-CA8D-4086-8EF1-734E7CF81E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4673-DF21-4178-A968-BD9D9102DF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00C8-CF94-4A5F-90F6-D8253FDD6D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ADE7-03DA-4667-9B5E-0D04A7E2DB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6BA3-C6AD-4888-8233-35774BFC20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6DFA-6922-42BC-B709-63826278DB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A871-6C2B-4F04-8BF3-CFE505DE12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5 Sobota Páno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zácny to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obota Pánova, túžime dne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erou sa do Bož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lízkosti vzn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ovi ochot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rdcia chceme d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za jeho dobrot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y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o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d nami bd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obota Pánova, pokoja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háňa únavnej časnosti ti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raz sa všetko z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vždy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í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d u Pána si od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d nami bd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obota Pánova, vzácny to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duši sa rozlieva nebeský j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voriteľ posie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čnej spásy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dostne mu vzdávajme chválu a 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d nami bd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obota Pán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etkých chce v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pokoja zdroj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o všednosti cie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nám stôl hojnosti pripravuje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n nás chlebom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sýti sá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d nami bd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05:22Z</dcterms:modified>
  <cp:revision>23</cp:revision>
  <dc:subject/>
  <dc:title>Je veľký náš Pán, on slávy je Kráľ Nech do všetkých strán  spev vrúcnych znie chvál.</dc:title>
</cp:coreProperties>
</file>